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46B4-D867-40E9-ACE4-413E65E53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2527-5023-468E-8B76-9DC34FF90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F54-525F-4C01-89DB-5C7A1724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99D-923D-4CAD-BD81-3EF9F4DCD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19EC-DD03-44A0-BBF7-AFDBA703B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993A-2D24-417E-A531-8E8811CF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9F2-E7AD-4C7D-A810-439680DDF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60E-1617-494C-B0BD-4B0ADE0F3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C19-7737-494E-8550-7EEC92F99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973-01DB-4BDE-A07B-D204D345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0B84-9A1B-41AD-A100-590AF9D0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F3A-706C-4897-869D-1DAD847C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650-9DD5-4E51-9B27-CB504E61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1EE-2A9C-4AF0-A524-F56EFE36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592-7DF7-4E44-BE6F-82676302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238-0757-4963-83D5-5E67307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8D6-1D33-49D2-B744-22BFDEF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B7E-474D-4983-858B-2FF61562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CA2-9518-4B1A-9A76-5E4F9FF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E55-4619-482C-8EF2-2141C58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9DDB-B6AA-4189-B883-CF49BEFE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0C67-9C7C-4BED-A041-A4A81307A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8" name="Picture 6" descr="Picture 2.png"/>
          <p:cNvPicPr/>
          <p:nvPr/>
        </p:nvPicPr>
        <p:blipFill>
          <a:blip r:embed="rId1"/>
          <a:stretch/>
        </p:blipFill>
        <p:spPr>
          <a:xfrm>
            <a:off x="5791320" y="762120"/>
            <a:ext cx="3352680" cy="25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228600" y="1219320"/>
          <a:ext cx="5105520" cy="148572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3733920"/>
          <a:ext cx="9144000" cy="2931840"/>
        </p:xfrm>
        <a:graphic>
          <a:graphicData uri="http://schemas.openxmlformats.org/drawingml/2006/table">
            <a:tbl>
              <a:tblPr/>
              <a:tblGrid>
                <a:gridCol w="1219320"/>
                <a:gridCol w="2971800"/>
                <a:gridCol w="1828800"/>
                <a:gridCol w="3124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Flo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rm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1-01-12T20:45:49Z</dcterms:modified>
  <cp:revision>303</cp:revision>
  <dc:subject/>
  <dc:title>PowerPoint Presentation</dc:title>
</cp:coreProperties>
</file>